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3B6-453F-4E77-AD6F-78F652B1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662-310E-4FD7-A78B-EFBA628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63E-39AF-4A67-A29C-C200358C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881-8F9D-4526-9BD0-7385C32E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D5E-27D5-4A88-AF09-F203501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6D0-8D60-45CB-A605-84BD2199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FC5-88C6-47E7-8807-4459D65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5EE-BA8A-4B72-86AE-B8B9010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21A-5FBE-41B4-BB1A-B9AF9246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F1B-4E40-4B09-AB7B-F0C27ABB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B33-5054-4FD2-89D0-573BDFB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295-FF27-427E-9D79-4295282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8B6-4087-40B5-94AB-E3103E90A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Võrdusega predikaatarvut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ega predikaatarvutuses on lisatud eriline võrduspredikaat, mida tähistame tavalise võrdusmärgiga ‘=’. Seega kuulutatakse valemiteks ka laus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rm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aatarvutuse tuletusreeglitele lisandub kaks uut reeg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oleks võimalik kasutada resolutsioonimeetodit võrdusega predikaatarvutuse jaoks, laiendame literaali mõistet atomaarvalemitega kujul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toome sisse kaks uut  reegl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952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324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odulatsio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L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adakse L-st, asendades selles mingi mitte-muutujast term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ühe esinemise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33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3352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ivne reflektsio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resolutsiooniarvutus on võrdusega predikaatloogika jaoks täielik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9:58:56Z</dcterms:created>
  <dc:creator>Tiina Zingel</dc:creator>
  <dc:description/>
  <dc:language>en-US</dc:language>
  <cp:lastModifiedBy>Tiina Zingel</cp:lastModifiedBy>
  <dcterms:modified xsi:type="dcterms:W3CDTF">2006-04-24T10:00:17Z</dcterms:modified>
  <cp:revision>2</cp:revision>
  <dc:subject/>
  <dc:title>PowerPoint Presentation</dc:title>
</cp:coreProperties>
</file>